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24957"/>
        <c:axId val="7881678"/>
      </c:barChart>
      <c:catAx>
        <c:axId val="791249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1678"/>
        <c:crosses val="autoZero"/>
        <c:auto val="1"/>
        <c:lblAlgn val="ctr"/>
        <c:lblOffset val="100"/>
        <c:noMultiLvlLbl val="0"/>
      </c:catAx>
      <c:valAx>
        <c:axId val="78816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249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BD24-A8C5-4181-A81C-8012CDEB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41E-0EB8-4BD6-B2BA-5F0200BF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6B76-E067-4A34-8B45-F0CBEE65B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5E8E-4D29-40A5-A4D8-FC39898D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6BA0-17AF-428A-8432-3B13CD05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115F-D833-42C6-910D-513A78BA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059E-DB84-4404-895B-96091B75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9288-D59A-4C5B-A187-8A1510A1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DE4-92E9-483D-8E1F-140FE53C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EC2-34EA-41B6-A793-0D9C3D3D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D6A3-976E-45B5-8F65-B0CB77B4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5FA-77B4-44F9-ADD6-871F9BE1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FDA24-840B-44BD-9587-4D8372038C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